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2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3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0"/>
            <a:ext cx="6743880" cy="99075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32">
                <a:moveTo>
                  <a:pt x="5" y="0"/>
                </a:moveTo>
                <a:arcTo wR="5" hR="5" stAng="16200000" swAng="-5400000"/>
                <a:lnTo>
                  <a:pt x="0" y="31727"/>
                </a:lnTo>
                <a:arcTo wR="5" hR="5" stAng="10800000" swAng="-5400000"/>
                <a:lnTo>
                  <a:pt x="21595" y="3173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589200" y="9459720"/>
            <a:ext cx="29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4/</a:t>
            </a:r>
            <a:fld id="{82BEE43B-7801-4A6C-9EE5-B125E304E0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>
            <a:off x="4734000" y="152280"/>
            <a:ext cx="1622520" cy="480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040" y="4724280"/>
            <a:ext cx="494676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94960" y="752040"/>
            <a:ext cx="49467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14040" y="4723920"/>
            <a:ext cx="4948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00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901800" y="7621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144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912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39800" y="167616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8912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39800" y="3940920"/>
            <a:ext cx="252432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644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55680" y="394092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5680" y="1676160"/>
            <a:ext cx="382608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940920"/>
            <a:ext cx="7840800" cy="206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8408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Protsessor, mälu, käsud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Tanel Tamme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900000" y="-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äike komponent: välistav või</a:t>
            </a:r>
            <a:r>
              <a:rPr b="1" lang="ar-SA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A xor B   =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(A and (not B)) or (B and (not A)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8580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Neljabitine liitja (four-bit adder)</a:t>
            </a:r>
            <a:r>
              <a:rPr b="1" lang="ar-SA" sz="2400" spc="-1" strike="noStrike">
                <a:solidFill>
                  <a:srgbClr val="000099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Kaheksa pluss kaks sisendjuhet, neli pluss üks väljundjuh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gothic"/>
              </a:rPr>
              <a:t>1011       1111       1111       1010       0111       0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gothic"/>
              </a:rPr>
              <a:t>0110       0001       1111       0101       1010       0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gothic"/>
              </a:rPr>
              <a:t>-----      -----      -----      -----      -----      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gothic"/>
              </a:rPr>
              <a:t>10001      10000      11110      01111      10001      00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1219320" y="3219480"/>
            <a:ext cx="655308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914400" y="31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4 biti liitja and / or / xor loogikakomponentidest</a:t>
            </a:r>
            <a:r>
              <a:rPr b="1" lang="ar-SA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280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Mälu</a:t>
            </a:r>
            <a:r>
              <a:rPr b="1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 põhi-id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agasi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Lülitatav tagasiside: tri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1317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066680" y="4462560"/>
            <a:ext cx="65534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762120" y="-307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Mälu on aeglane ja ei lähe eriti ruttu kiirema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6042240" cy="335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Eri mäluosad ehitatud eri tehnoloogiat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Arvuti põhimälu DRAM on ehitatud väikestest kondensaatoritest: iga kondensaator hoiab ühte bitti. Tema juhtimiseks on kasutusel veel üks transist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1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Kondensaatoritega mälu ei osata väga kiireks teh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1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Kondensaatoritega mälu on od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Protsessori registrid ja cache mälu on ehitatud transistoridest (SRAM): 4 või 6 transistori ühe biti koh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1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See on kiire tehnoloog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1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Samas on see kall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SSD (flash mälu, mälupulgad) on samuti transistoridest, aga aeglane ja od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1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160"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16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che ja mälu hierarhia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suhteliste kiiruste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012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1360080" y="1371600"/>
            <a:ext cx="2994120" cy="50292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H="1" flipV="1">
            <a:off x="4331880" y="1360080"/>
            <a:ext cx="2994120" cy="52801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114800" y="1600200"/>
            <a:ext cx="4572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3886200" y="2057400"/>
            <a:ext cx="914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3429000" y="2743200"/>
            <a:ext cx="1828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1600200" y="5943600"/>
            <a:ext cx="5486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2971800" y="3657600"/>
            <a:ext cx="27432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3"/>
          <p:cNvSpPr/>
          <p:nvPr/>
        </p:nvSpPr>
        <p:spPr>
          <a:xfrm flipH="1">
            <a:off x="4560840" y="914400"/>
            <a:ext cx="1393920" cy="4572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4"/>
          <p:cNvSpPr/>
          <p:nvPr/>
        </p:nvSpPr>
        <p:spPr>
          <a:xfrm flipH="1">
            <a:off x="4789080" y="16002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5"/>
          <p:cNvSpPr/>
          <p:nvPr/>
        </p:nvSpPr>
        <p:spPr>
          <a:xfrm flipH="1">
            <a:off x="5017680" y="22860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6"/>
          <p:cNvSpPr/>
          <p:nvPr/>
        </p:nvSpPr>
        <p:spPr>
          <a:xfrm flipH="1">
            <a:off x="5474880" y="29718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17"/>
          <p:cNvSpPr/>
          <p:nvPr/>
        </p:nvSpPr>
        <p:spPr>
          <a:xfrm flipH="1">
            <a:off x="5805000" y="3591000"/>
            <a:ext cx="1165320" cy="2286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18"/>
          <p:cNvSpPr/>
          <p:nvPr/>
        </p:nvSpPr>
        <p:spPr>
          <a:xfrm>
            <a:off x="1393920" y="5715000"/>
            <a:ext cx="190440" cy="56988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3544920" y="121428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6068880" y="13716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1 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6297480" y="2057400"/>
            <a:ext cx="1319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2 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6627960" y="2743200"/>
            <a:ext cx="7506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7056720" y="3316320"/>
            <a:ext cx="87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ke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1009800" y="5205240"/>
            <a:ext cx="7401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914400" y="1371600"/>
            <a:ext cx="1440" cy="5029200"/>
          </a:xfrm>
          <a:prstGeom prst="line">
            <a:avLst/>
          </a:prstGeom>
          <a:ln cap="sq" w="367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254520" y="1828800"/>
            <a:ext cx="41832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3316320" y="1600200"/>
            <a:ext cx="3423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8"/>
          <p:cNvSpPr/>
          <p:nvPr/>
        </p:nvSpPr>
        <p:spPr>
          <a:xfrm>
            <a:off x="2927160" y="2128680"/>
            <a:ext cx="503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9"/>
          <p:cNvSpPr/>
          <p:nvPr/>
        </p:nvSpPr>
        <p:spPr>
          <a:xfrm>
            <a:off x="1143000" y="4114800"/>
            <a:ext cx="1392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00000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0"/>
          <p:cNvSpPr/>
          <p:nvPr/>
        </p:nvSpPr>
        <p:spPr>
          <a:xfrm>
            <a:off x="2514600" y="2971800"/>
            <a:ext cx="665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2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1"/>
          <p:cNvSpPr/>
          <p:nvPr/>
        </p:nvSpPr>
        <p:spPr>
          <a:xfrm>
            <a:off x="6004080" y="757080"/>
            <a:ext cx="22489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egistrid  pro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Tüüpiline lihtsat sorti prots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otsessori sees on väike hulk spetsiaal-mälupesi (registrid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hteid saab teha ainult nende registrite vah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i ole näiteks võimalik liita otse kahte mälus olevat arvu: enne tuleb nad registritesse kopeerida, siis seal liita, siis tulemusregistrist (nn akumulaator) mäll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kirjut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Koha, kust mälust loetakse/kirjutatak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äitab ADDR regist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Koha, kust lugeda järgmine käs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äitab PC (program counter) register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Mida protsessor teha oskab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762120" y="844560"/>
            <a:ext cx="784836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Loeb mälust arve tehte-registritesse, teeb lihtsaid tehteid (liitmine, korrutamine jne) ning salvestab neid jälle mäll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Teeb tingimuslikke hüppeid koodis, a la „kui registris ACC on arv null, siis hakka täitma käske aadressilt 1000, muidu jätka samast kohast“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Teeb mälust lugemisi ja kirjutamisi rezhiimis, kus mäluaadress arvutatakse mitme registri sisu liitmise te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eerukamatel protsessoritel on palju erikäske, mis teevad levinud programmijuppe (a la liida pikk jada arve mälust) otse elektroonikas ja kiiremini, kui ta paljude lihtsa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äskude jadana suuda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Reguleerib kiire cache-mälu kasutus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ida hoida caches j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ida sealt välja visa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Käskude täitmine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 elektroonika poolt tsüklilis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Lihtsal protsessoril on k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aks tsüklit üksteise se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Välimine tsükkel suurendab igal ringil PC-d (program counterit), st igal ringil võetakse täidetav käsk järgmisest mälupesa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Sisemine tsükkel toimub iga käsu sees. Sisemise tsükli jooksul täidetakse käsu sisemisi pisi-sam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Üks pisi-samm vastab mingile juhtmele voolu peale andmisele, mispeale käivitub vastav loogika-ahel prot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ssoris ja selle tulemus salvestatakse mõnda registris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840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Masina taktsagedus on see sagedus, kui tihti pisi-samme täidetakse. Iga järgmise pisi-sammu alustamise jaoks on masinas kell, mis annab kindla sagedusega impulsse. Pisi-sammu number saadakse nende impulsside kokkulugemiseg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84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84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64480" cy="8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Sisukor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Transistoridest lülitid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Suuremad komponendid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Mälu: tagasisidega lüliti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Mälu on aeglan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Mälutüübid ja cach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Käsud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Keeruline protsessor on igatpidi paralleel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838080" y="762120"/>
            <a:ext cx="784872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Keerulisel (st kaasaegsel) protsessoril on mitu kihti parallelism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Protsessoril on mitu tuuma: igaüks on sõltumatu omaette töötav protsess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Üks tuum püüab (ja tihti suudab) täita hulka käske paralleelse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If-lausete puhul püüab protsessor paralleelselt ette täita ühte haru, mida ta peab tõenäolisema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Cache salvestab erinevaid hilju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kasutatud põhimälu jupp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kiires SRAM mäl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Põhimure on minimeeri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põhimälu poole pöördumis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Protsessor, mälu, käsud: reaalne näide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Tanel Tamme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Uurime reaalset protsessorit: 65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762120" y="844560"/>
            <a:ext cx="784836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OS 6502 oli kasutusel Apple II ja enamuse varaste koduarvutite protsessorina. Tal on üpris lihtsad käsud. Mobiilides kasutatav ARM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selle protsessori kauge järeltuli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Hobikasutajate ja eri-huvi-vajaduste jaoks toodetakse seda siiamaani, küll mitte enam sama firma poo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aasaegsed protsessorid on palju keerukama käsusüsteemiga, kuid põhi-ideed on analoogili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Tutvume käskude ja assembleriga pikemalt said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http://skilldrick.github.io/easy650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Uurime reaalset protsessorit: 65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762120" y="844560"/>
            <a:ext cx="784836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Väike näiteprogramm, mida protsessor suudab täita, on lihtsal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baidijada mälus, mis siin hex-kujul (16-nd süsteemi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9 01 8d 00 02 a9 05 8d 01 02 a9 08 8d 02 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is „inimkeelseks“ mnemooniliseks assembleriks tõlgituna näeb välj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 Hexdump   Diss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0600    a9 01     LDA #$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0602    8d 00 02  STA $0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0605    a9 05     LDA #$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0607    8d 01 02  STA $02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060a    a9 08     LDA #$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060c    8d 02 02  STA $0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Need käsud laevad mälust a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ja salvestavad neid teise koh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mälu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120" indent="-277920">
              <a:lnSpc>
                <a:spcPct val="88000"/>
              </a:lnSpc>
              <a:spcBef>
                <a:spcPts val="3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153240" y="105480"/>
            <a:ext cx="283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Unicode MS"/>
              </a:rPr>
              <a:t>a9 01 8d 00 02 a9 05 8d 01 02 a9 08 8d 02 02</a:t>
            </a:r>
            <a:r>
              <a:rPr b="0" lang="en-GB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5480" y="12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Näpuga lüliti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932080" y="144288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35"/>
          <p:cNvSpPr/>
          <p:nvPr/>
        </p:nvSpPr>
        <p:spPr>
          <a:xfrm>
            <a:off x="5970240" y="403380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Box 36"/>
          <p:cNvSpPr/>
          <p:nvPr/>
        </p:nvSpPr>
        <p:spPr>
          <a:xfrm>
            <a:off x="885240" y="230508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Box 37"/>
          <p:cNvSpPr/>
          <p:nvPr/>
        </p:nvSpPr>
        <p:spPr>
          <a:xfrm>
            <a:off x="4266720" y="2313000"/>
            <a:ext cx="10630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le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älj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Down Arrow 7"/>
          <p:cNvSpPr/>
          <p:nvPr/>
        </p:nvSpPr>
        <p:spPr>
          <a:xfrm>
            <a:off x="2619360" y="3444840"/>
            <a:ext cx="471600" cy="68580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Box 39"/>
          <p:cNvSpPr/>
          <p:nvPr/>
        </p:nvSpPr>
        <p:spPr>
          <a:xfrm>
            <a:off x="2324160" y="2473200"/>
            <a:ext cx="10616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aj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äpu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8"/>
          <p:cNvSpPr/>
          <p:nvPr/>
        </p:nvSpPr>
        <p:spPr>
          <a:xfrm>
            <a:off x="2840040" y="4457880"/>
            <a:ext cx="117360" cy="853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855880" y="1731960"/>
            <a:ext cx="115920" cy="855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Relee: mootoriga lüliti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1143000" y="8380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Straight Connector 2"/>
          <p:cNvSpPr/>
          <p:nvPr/>
        </p:nvSpPr>
        <p:spPr>
          <a:xfrm>
            <a:off x="1066680" y="175248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Straight Connector 22"/>
          <p:cNvSpPr/>
          <p:nvPr/>
        </p:nvSpPr>
        <p:spPr>
          <a:xfrm>
            <a:off x="3503520" y="175248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Straight Connector 23"/>
          <p:cNvSpPr/>
          <p:nvPr/>
        </p:nvSpPr>
        <p:spPr>
          <a:xfrm>
            <a:off x="2208240" y="1295280"/>
            <a:ext cx="129528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Oval 4"/>
          <p:cNvSpPr/>
          <p:nvPr/>
        </p:nvSpPr>
        <p:spPr>
          <a:xfrm>
            <a:off x="3389400" y="1636560"/>
            <a:ext cx="19188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1295280" y="99072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892080" y="3429000"/>
            <a:ext cx="4492800" cy="159696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Straight Connector 28"/>
          <p:cNvSpPr/>
          <p:nvPr/>
        </p:nvSpPr>
        <p:spPr>
          <a:xfrm>
            <a:off x="104760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Straight Connector 29"/>
          <p:cNvSpPr/>
          <p:nvPr/>
        </p:nvSpPr>
        <p:spPr>
          <a:xfrm>
            <a:off x="3484440" y="4343400"/>
            <a:ext cx="129564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Straight Connector 30"/>
          <p:cNvSpPr/>
          <p:nvPr/>
        </p:nvSpPr>
        <p:spPr>
          <a:xfrm>
            <a:off x="2057400" y="4322880"/>
            <a:ext cx="1427040" cy="205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Oval 31"/>
          <p:cNvSpPr/>
          <p:nvPr/>
        </p:nvSpPr>
        <p:spPr>
          <a:xfrm>
            <a:off x="3562200" y="4227480"/>
            <a:ext cx="192240" cy="1922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1276200" y="3581280"/>
            <a:ext cx="4492800" cy="159732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949280" y="1212840"/>
            <a:ext cx="2207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bi ei lä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Box 35"/>
          <p:cNvSpPr/>
          <p:nvPr/>
        </p:nvSpPr>
        <p:spPr>
          <a:xfrm>
            <a:off x="5040000" y="3951360"/>
            <a:ext cx="2062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 läheb lä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Freeform 5"/>
          <p:cNvSpPr/>
          <p:nvPr/>
        </p:nvSpPr>
        <p:spPr>
          <a:xfrm>
            <a:off x="2003400" y="1774800"/>
            <a:ext cx="1120680" cy="6746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2709720" y="762120"/>
            <a:ext cx="406440" cy="784080"/>
          </a:xfrm>
          <a:custGeom>
            <a:avLst/>
            <a:gdLst/>
            <a:ahLst/>
            <a:rect l="l" t="t" r="r" b="b"/>
            <a:pathLst>
              <a:path w="405731" h="783771">
                <a:moveTo>
                  <a:pt x="174171" y="783771"/>
                </a:moveTo>
                <a:cubicBezTo>
                  <a:pt x="177787" y="758460"/>
                  <a:pt x="198214" y="670308"/>
                  <a:pt x="174171" y="642257"/>
                </a:cubicBezTo>
                <a:cubicBezTo>
                  <a:pt x="162130" y="628209"/>
                  <a:pt x="137593" y="636239"/>
                  <a:pt x="119743" y="631371"/>
                </a:cubicBezTo>
                <a:cubicBezTo>
                  <a:pt x="97602" y="625333"/>
                  <a:pt x="54428" y="609600"/>
                  <a:pt x="54428" y="609600"/>
                </a:cubicBezTo>
                <a:cubicBezTo>
                  <a:pt x="170542" y="605971"/>
                  <a:pt x="287217" y="610668"/>
                  <a:pt x="402771" y="598714"/>
                </a:cubicBezTo>
                <a:cubicBezTo>
                  <a:pt x="415784" y="597368"/>
                  <a:pt x="382409" y="581414"/>
                  <a:pt x="370114" y="576943"/>
                </a:cubicBezTo>
                <a:cubicBezTo>
                  <a:pt x="324205" y="560249"/>
                  <a:pt x="266375" y="552396"/>
                  <a:pt x="217714" y="544286"/>
                </a:cubicBezTo>
                <a:cubicBezTo>
                  <a:pt x="118638" y="511259"/>
                  <a:pt x="275105" y="561917"/>
                  <a:pt x="130628" y="522514"/>
                </a:cubicBezTo>
                <a:cubicBezTo>
                  <a:pt x="-4913" y="485549"/>
                  <a:pt x="135354" y="512417"/>
                  <a:pt x="0" y="489857"/>
                </a:cubicBezTo>
                <a:cubicBezTo>
                  <a:pt x="88712" y="480000"/>
                  <a:pt x="86516" y="482044"/>
                  <a:pt x="163286" y="468086"/>
                </a:cubicBezTo>
                <a:cubicBezTo>
                  <a:pt x="181490" y="464776"/>
                  <a:pt x="199304" y="459041"/>
                  <a:pt x="217714" y="457200"/>
                </a:cubicBezTo>
                <a:cubicBezTo>
                  <a:pt x="271993" y="451772"/>
                  <a:pt x="326571" y="449943"/>
                  <a:pt x="381000" y="446314"/>
                </a:cubicBezTo>
                <a:cubicBezTo>
                  <a:pt x="301493" y="419812"/>
                  <a:pt x="337950" y="430109"/>
                  <a:pt x="272143" y="413657"/>
                </a:cubicBezTo>
                <a:cubicBezTo>
                  <a:pt x="261257" y="406400"/>
                  <a:pt x="251188" y="397737"/>
                  <a:pt x="239486" y="391886"/>
                </a:cubicBezTo>
                <a:cubicBezTo>
                  <a:pt x="229223" y="386754"/>
                  <a:pt x="217861" y="384152"/>
                  <a:pt x="206828" y="381000"/>
                </a:cubicBezTo>
                <a:cubicBezTo>
                  <a:pt x="128591" y="358646"/>
                  <a:pt x="198665" y="381681"/>
                  <a:pt x="108857" y="359229"/>
                </a:cubicBezTo>
                <a:cubicBezTo>
                  <a:pt x="97725" y="356446"/>
                  <a:pt x="87086" y="351972"/>
                  <a:pt x="76200" y="348343"/>
                </a:cubicBezTo>
                <a:cubicBezTo>
                  <a:pt x="210447" y="303593"/>
                  <a:pt x="118594" y="327717"/>
                  <a:pt x="359228" y="315686"/>
                </a:cubicBezTo>
                <a:cubicBezTo>
                  <a:pt x="319724" y="276180"/>
                  <a:pt x="352153" y="300174"/>
                  <a:pt x="272143" y="283029"/>
                </a:cubicBezTo>
                <a:cubicBezTo>
                  <a:pt x="242885" y="276759"/>
                  <a:pt x="185057" y="261257"/>
                  <a:pt x="185057" y="261257"/>
                </a:cubicBezTo>
                <a:cubicBezTo>
                  <a:pt x="181428" y="250371"/>
                  <a:pt x="174171" y="240075"/>
                  <a:pt x="174171" y="228600"/>
                </a:cubicBezTo>
                <a:cubicBezTo>
                  <a:pt x="174171" y="159562"/>
                  <a:pt x="181773" y="90731"/>
                  <a:pt x="185057" y="21771"/>
                </a:cubicBezTo>
                <a:cubicBezTo>
                  <a:pt x="185402" y="14522"/>
                  <a:pt x="185057" y="7257"/>
                  <a:pt x="1850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Box 33"/>
          <p:cNvSpPr/>
          <p:nvPr/>
        </p:nvSpPr>
        <p:spPr>
          <a:xfrm>
            <a:off x="3185280" y="750960"/>
            <a:ext cx="1697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edru hoi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Freeform 34"/>
          <p:cNvSpPr/>
          <p:nvPr/>
        </p:nvSpPr>
        <p:spPr>
          <a:xfrm>
            <a:off x="1992240" y="4503600"/>
            <a:ext cx="1120680" cy="676440"/>
          </a:xfrm>
          <a:custGeom>
            <a:avLst/>
            <a:gdLst/>
            <a:ahLst/>
            <a:rect l="l" t="t" r="r" b="b"/>
            <a:pathLst>
              <a:path w="1121229" h="674915">
                <a:moveTo>
                  <a:pt x="10886" y="370115"/>
                </a:moveTo>
                <a:cubicBezTo>
                  <a:pt x="137886" y="366486"/>
                  <a:pt x="265010" y="365907"/>
                  <a:pt x="391886" y="359229"/>
                </a:cubicBezTo>
                <a:cubicBezTo>
                  <a:pt x="436954" y="356857"/>
                  <a:pt x="414037" y="345938"/>
                  <a:pt x="446315" y="326572"/>
                </a:cubicBezTo>
                <a:cubicBezTo>
                  <a:pt x="510698" y="287943"/>
                  <a:pt x="447403" y="348965"/>
                  <a:pt x="511629" y="293915"/>
                </a:cubicBezTo>
                <a:cubicBezTo>
                  <a:pt x="527214" y="280557"/>
                  <a:pt x="555172" y="250372"/>
                  <a:pt x="555172" y="250372"/>
                </a:cubicBezTo>
                <a:cubicBezTo>
                  <a:pt x="575986" y="187933"/>
                  <a:pt x="551968" y="243758"/>
                  <a:pt x="587829" y="195943"/>
                </a:cubicBezTo>
                <a:cubicBezTo>
                  <a:pt x="603528" y="175010"/>
                  <a:pt x="612870" y="149131"/>
                  <a:pt x="631372" y="130629"/>
                </a:cubicBezTo>
                <a:lnTo>
                  <a:pt x="685800" y="76200"/>
                </a:lnTo>
                <a:cubicBezTo>
                  <a:pt x="689429" y="65314"/>
                  <a:pt x="687349" y="50212"/>
                  <a:pt x="696686" y="43543"/>
                </a:cubicBezTo>
                <a:cubicBezTo>
                  <a:pt x="715360" y="30204"/>
                  <a:pt x="740229" y="29029"/>
                  <a:pt x="762000" y="21772"/>
                </a:cubicBezTo>
                <a:cubicBezTo>
                  <a:pt x="832681" y="-1788"/>
                  <a:pt x="783227" y="11925"/>
                  <a:pt x="914400" y="0"/>
                </a:cubicBezTo>
                <a:cubicBezTo>
                  <a:pt x="945446" y="3450"/>
                  <a:pt x="1008554" y="3534"/>
                  <a:pt x="1045029" y="21772"/>
                </a:cubicBezTo>
                <a:cubicBezTo>
                  <a:pt x="1056731" y="27623"/>
                  <a:pt x="1066800" y="36286"/>
                  <a:pt x="1077686" y="43543"/>
                </a:cubicBezTo>
                <a:cubicBezTo>
                  <a:pt x="1074057" y="58057"/>
                  <a:pt x="1077379" y="76507"/>
                  <a:pt x="1066800" y="87086"/>
                </a:cubicBezTo>
                <a:cubicBezTo>
                  <a:pt x="1056221" y="97665"/>
                  <a:pt x="1038103" y="96116"/>
                  <a:pt x="1023258" y="97972"/>
                </a:cubicBezTo>
                <a:cubicBezTo>
                  <a:pt x="979901" y="103392"/>
                  <a:pt x="936172" y="105229"/>
                  <a:pt x="892629" y="108858"/>
                </a:cubicBezTo>
                <a:cubicBezTo>
                  <a:pt x="859972" y="105229"/>
                  <a:pt x="824859" y="110916"/>
                  <a:pt x="794658" y="97972"/>
                </a:cubicBezTo>
                <a:cubicBezTo>
                  <a:pt x="785225" y="93929"/>
                  <a:pt x="806177" y="76688"/>
                  <a:pt x="816429" y="76200"/>
                </a:cubicBezTo>
                <a:lnTo>
                  <a:pt x="1023258" y="87086"/>
                </a:lnTo>
                <a:cubicBezTo>
                  <a:pt x="1034144" y="90715"/>
                  <a:pt x="1046955" y="90804"/>
                  <a:pt x="1055915" y="97972"/>
                </a:cubicBezTo>
                <a:cubicBezTo>
                  <a:pt x="1075098" y="113319"/>
                  <a:pt x="1081401" y="141774"/>
                  <a:pt x="1088572" y="163286"/>
                </a:cubicBezTo>
                <a:cubicBezTo>
                  <a:pt x="1081315" y="170543"/>
                  <a:pt x="1075980" y="180468"/>
                  <a:pt x="1066800" y="185058"/>
                </a:cubicBezTo>
                <a:cubicBezTo>
                  <a:pt x="1011667" y="212625"/>
                  <a:pt x="965086" y="210874"/>
                  <a:pt x="903515" y="217715"/>
                </a:cubicBezTo>
                <a:cubicBezTo>
                  <a:pt x="859972" y="214086"/>
                  <a:pt x="811967" y="226370"/>
                  <a:pt x="772886" y="206829"/>
                </a:cubicBezTo>
                <a:cubicBezTo>
                  <a:pt x="758372" y="199572"/>
                  <a:pt x="778556" y="165299"/>
                  <a:pt x="794658" y="163286"/>
                </a:cubicBezTo>
                <a:cubicBezTo>
                  <a:pt x="873952" y="153374"/>
                  <a:pt x="954315" y="170543"/>
                  <a:pt x="1034143" y="174172"/>
                </a:cubicBezTo>
                <a:cubicBezTo>
                  <a:pt x="1045029" y="177801"/>
                  <a:pt x="1056961" y="179154"/>
                  <a:pt x="1066800" y="185058"/>
                </a:cubicBezTo>
                <a:cubicBezTo>
                  <a:pt x="1075601" y="190338"/>
                  <a:pt x="1080558" y="200418"/>
                  <a:pt x="1088572" y="206829"/>
                </a:cubicBezTo>
                <a:cubicBezTo>
                  <a:pt x="1098788" y="215002"/>
                  <a:pt x="1110343" y="221343"/>
                  <a:pt x="1121229" y="228600"/>
                </a:cubicBezTo>
                <a:cubicBezTo>
                  <a:pt x="1117600" y="239486"/>
                  <a:pt x="1117511" y="252298"/>
                  <a:pt x="1110343" y="261258"/>
                </a:cubicBezTo>
                <a:cubicBezTo>
                  <a:pt x="1102170" y="271474"/>
                  <a:pt x="1089711" y="277875"/>
                  <a:pt x="1077686" y="283029"/>
                </a:cubicBezTo>
                <a:cubicBezTo>
                  <a:pt x="1028817" y="303973"/>
                  <a:pt x="875537" y="304488"/>
                  <a:pt x="870858" y="304800"/>
                </a:cubicBezTo>
                <a:cubicBezTo>
                  <a:pt x="845458" y="301172"/>
                  <a:pt x="817607" y="305389"/>
                  <a:pt x="794658" y="293915"/>
                </a:cubicBezTo>
                <a:cubicBezTo>
                  <a:pt x="784395" y="288784"/>
                  <a:pt x="815840" y="283029"/>
                  <a:pt x="827315" y="283029"/>
                </a:cubicBezTo>
                <a:cubicBezTo>
                  <a:pt x="892730" y="283029"/>
                  <a:pt x="957944" y="290286"/>
                  <a:pt x="1023258" y="293915"/>
                </a:cubicBezTo>
                <a:cubicBezTo>
                  <a:pt x="1041401" y="297543"/>
                  <a:pt x="1059736" y="300313"/>
                  <a:pt x="1077686" y="304800"/>
                </a:cubicBezTo>
                <a:cubicBezTo>
                  <a:pt x="1088818" y="307583"/>
                  <a:pt x="1105211" y="305423"/>
                  <a:pt x="1110343" y="315686"/>
                </a:cubicBezTo>
                <a:cubicBezTo>
                  <a:pt x="1115475" y="325949"/>
                  <a:pt x="1105361" y="338504"/>
                  <a:pt x="1099458" y="348343"/>
                </a:cubicBezTo>
                <a:cubicBezTo>
                  <a:pt x="1080458" y="380009"/>
                  <a:pt x="1044939" y="381030"/>
                  <a:pt x="1012372" y="391886"/>
                </a:cubicBezTo>
                <a:lnTo>
                  <a:pt x="979715" y="402772"/>
                </a:lnTo>
                <a:cubicBezTo>
                  <a:pt x="907143" y="399143"/>
                  <a:pt x="833104" y="406855"/>
                  <a:pt x="762000" y="391886"/>
                </a:cubicBezTo>
                <a:cubicBezTo>
                  <a:pt x="750772" y="389522"/>
                  <a:pt x="764772" y="367343"/>
                  <a:pt x="772886" y="359229"/>
                </a:cubicBezTo>
                <a:cubicBezTo>
                  <a:pt x="781000" y="351115"/>
                  <a:pt x="794657" y="351972"/>
                  <a:pt x="805543" y="348343"/>
                </a:cubicBezTo>
                <a:cubicBezTo>
                  <a:pt x="889000" y="351972"/>
                  <a:pt x="972929" y="349654"/>
                  <a:pt x="1055915" y="359229"/>
                </a:cubicBezTo>
                <a:cubicBezTo>
                  <a:pt x="1068912" y="360729"/>
                  <a:pt x="1080399" y="370784"/>
                  <a:pt x="1088572" y="381000"/>
                </a:cubicBezTo>
                <a:cubicBezTo>
                  <a:pt x="1095740" y="389960"/>
                  <a:pt x="1095829" y="402772"/>
                  <a:pt x="1099458" y="413658"/>
                </a:cubicBezTo>
                <a:cubicBezTo>
                  <a:pt x="1095829" y="428172"/>
                  <a:pt x="1095263" y="443819"/>
                  <a:pt x="1088572" y="457200"/>
                </a:cubicBezTo>
                <a:cubicBezTo>
                  <a:pt x="1083982" y="466380"/>
                  <a:pt x="1075601" y="473691"/>
                  <a:pt x="1066800" y="478972"/>
                </a:cubicBezTo>
                <a:cubicBezTo>
                  <a:pt x="1040303" y="494870"/>
                  <a:pt x="959068" y="499242"/>
                  <a:pt x="947058" y="500743"/>
                </a:cubicBezTo>
                <a:cubicBezTo>
                  <a:pt x="878115" y="497115"/>
                  <a:pt x="807623" y="504835"/>
                  <a:pt x="740229" y="489858"/>
                </a:cubicBezTo>
                <a:cubicBezTo>
                  <a:pt x="729027" y="487369"/>
                  <a:pt x="739664" y="457939"/>
                  <a:pt x="751115" y="457200"/>
                </a:cubicBezTo>
                <a:cubicBezTo>
                  <a:pt x="859806" y="450187"/>
                  <a:pt x="968829" y="464457"/>
                  <a:pt x="1077686" y="468086"/>
                </a:cubicBezTo>
                <a:cubicBezTo>
                  <a:pt x="1084943" y="478972"/>
                  <a:pt x="1099458" y="487660"/>
                  <a:pt x="1099458" y="500743"/>
                </a:cubicBezTo>
                <a:cubicBezTo>
                  <a:pt x="1099458" y="550386"/>
                  <a:pt x="1082011" y="569338"/>
                  <a:pt x="1045029" y="587829"/>
                </a:cubicBezTo>
                <a:cubicBezTo>
                  <a:pt x="1034766" y="592961"/>
                  <a:pt x="1023258" y="595086"/>
                  <a:pt x="1012372" y="598715"/>
                </a:cubicBezTo>
                <a:cubicBezTo>
                  <a:pt x="921658" y="595086"/>
                  <a:pt x="830183" y="600095"/>
                  <a:pt x="740229" y="587829"/>
                </a:cubicBezTo>
                <a:cubicBezTo>
                  <a:pt x="727266" y="586061"/>
                  <a:pt x="759815" y="566626"/>
                  <a:pt x="772886" y="566058"/>
                </a:cubicBezTo>
                <a:lnTo>
                  <a:pt x="990600" y="576943"/>
                </a:lnTo>
                <a:cubicBezTo>
                  <a:pt x="997857" y="584200"/>
                  <a:pt x="1007091" y="589914"/>
                  <a:pt x="1012372" y="598715"/>
                </a:cubicBezTo>
                <a:cubicBezTo>
                  <a:pt x="1031664" y="630867"/>
                  <a:pt x="1021250" y="639404"/>
                  <a:pt x="1012372" y="674915"/>
                </a:cubicBezTo>
                <a:cubicBezTo>
                  <a:pt x="878115" y="671286"/>
                  <a:pt x="743581" y="673376"/>
                  <a:pt x="609600" y="664029"/>
                </a:cubicBezTo>
                <a:cubicBezTo>
                  <a:pt x="609596" y="664029"/>
                  <a:pt x="527959" y="636816"/>
                  <a:pt x="511629" y="631372"/>
                </a:cubicBezTo>
                <a:cubicBezTo>
                  <a:pt x="500743" y="627743"/>
                  <a:pt x="490421" y="621249"/>
                  <a:pt x="478972" y="620486"/>
                </a:cubicBezTo>
                <a:cubicBezTo>
                  <a:pt x="210690" y="602600"/>
                  <a:pt x="370235" y="609600"/>
                  <a:pt x="0" y="609600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Freeform 11"/>
          <p:cNvSpPr/>
          <p:nvPr/>
        </p:nvSpPr>
        <p:spPr>
          <a:xfrm>
            <a:off x="2676600" y="3249720"/>
            <a:ext cx="395280" cy="1071360"/>
          </a:xfrm>
          <a:custGeom>
            <a:avLst/>
            <a:gdLst/>
            <a:ahLst/>
            <a:rect l="l" t="t" r="r" b="b"/>
            <a:pathLst>
              <a:path w="396109" h="1072473">
                <a:moveTo>
                  <a:pt x="186546" y="1072473"/>
                </a:moveTo>
                <a:cubicBezTo>
                  <a:pt x="182917" y="1003530"/>
                  <a:pt x="220373" y="918247"/>
                  <a:pt x="175660" y="865644"/>
                </a:cubicBezTo>
                <a:cubicBezTo>
                  <a:pt x="126996" y="808392"/>
                  <a:pt x="-80712" y="882157"/>
                  <a:pt x="34146" y="843873"/>
                </a:cubicBezTo>
                <a:cubicBezTo>
                  <a:pt x="115234" y="789813"/>
                  <a:pt x="15636" y="859297"/>
                  <a:pt x="99460" y="789444"/>
                </a:cubicBezTo>
                <a:cubicBezTo>
                  <a:pt x="109511" y="781069"/>
                  <a:pt x="121901" y="775846"/>
                  <a:pt x="132117" y="767673"/>
                </a:cubicBezTo>
                <a:cubicBezTo>
                  <a:pt x="140131" y="761262"/>
                  <a:pt x="145088" y="751182"/>
                  <a:pt x="153889" y="745901"/>
                </a:cubicBezTo>
                <a:cubicBezTo>
                  <a:pt x="163728" y="739997"/>
                  <a:pt x="175802" y="739044"/>
                  <a:pt x="186546" y="735015"/>
                </a:cubicBezTo>
                <a:cubicBezTo>
                  <a:pt x="204842" y="728154"/>
                  <a:pt x="223820" y="722601"/>
                  <a:pt x="240974" y="713244"/>
                </a:cubicBezTo>
                <a:cubicBezTo>
                  <a:pt x="350641" y="653426"/>
                  <a:pt x="262663" y="680608"/>
                  <a:pt x="349832" y="658815"/>
                </a:cubicBezTo>
                <a:cubicBezTo>
                  <a:pt x="360718" y="651558"/>
                  <a:pt x="374316" y="647260"/>
                  <a:pt x="382489" y="637044"/>
                </a:cubicBezTo>
                <a:cubicBezTo>
                  <a:pt x="389657" y="628084"/>
                  <a:pt x="401488" y="612501"/>
                  <a:pt x="393374" y="604387"/>
                </a:cubicBezTo>
                <a:cubicBezTo>
                  <a:pt x="373449" y="584462"/>
                  <a:pt x="272818" y="574724"/>
                  <a:pt x="251860" y="571730"/>
                </a:cubicBezTo>
                <a:cubicBezTo>
                  <a:pt x="237346" y="564473"/>
                  <a:pt x="222406" y="558009"/>
                  <a:pt x="208317" y="549958"/>
                </a:cubicBezTo>
                <a:cubicBezTo>
                  <a:pt x="196958" y="543467"/>
                  <a:pt x="187362" y="534038"/>
                  <a:pt x="175660" y="528187"/>
                </a:cubicBezTo>
                <a:cubicBezTo>
                  <a:pt x="165397" y="523055"/>
                  <a:pt x="153266" y="522433"/>
                  <a:pt x="143003" y="517301"/>
                </a:cubicBezTo>
                <a:cubicBezTo>
                  <a:pt x="98328" y="494963"/>
                  <a:pt x="122326" y="500759"/>
                  <a:pt x="88574" y="473758"/>
                </a:cubicBezTo>
                <a:cubicBezTo>
                  <a:pt x="19919" y="418834"/>
                  <a:pt x="86709" y="482780"/>
                  <a:pt x="34146" y="430215"/>
                </a:cubicBezTo>
                <a:cubicBezTo>
                  <a:pt x="116133" y="375558"/>
                  <a:pt x="11935" y="439734"/>
                  <a:pt x="110346" y="397558"/>
                </a:cubicBezTo>
                <a:cubicBezTo>
                  <a:pt x="122371" y="392404"/>
                  <a:pt x="131048" y="381100"/>
                  <a:pt x="143003" y="375787"/>
                </a:cubicBezTo>
                <a:cubicBezTo>
                  <a:pt x="163974" y="366466"/>
                  <a:pt x="208317" y="354015"/>
                  <a:pt x="208317" y="354015"/>
                </a:cubicBezTo>
                <a:cubicBezTo>
                  <a:pt x="246317" y="316017"/>
                  <a:pt x="220352" y="335490"/>
                  <a:pt x="295403" y="310473"/>
                </a:cubicBezTo>
                <a:lnTo>
                  <a:pt x="328060" y="299587"/>
                </a:lnTo>
                <a:lnTo>
                  <a:pt x="360717" y="288701"/>
                </a:lnTo>
                <a:cubicBezTo>
                  <a:pt x="349831" y="281444"/>
                  <a:pt x="340015" y="272243"/>
                  <a:pt x="328060" y="266930"/>
                </a:cubicBezTo>
                <a:cubicBezTo>
                  <a:pt x="307089" y="257609"/>
                  <a:pt x="284517" y="252415"/>
                  <a:pt x="262746" y="245158"/>
                </a:cubicBezTo>
                <a:cubicBezTo>
                  <a:pt x="220689" y="231139"/>
                  <a:pt x="228194" y="232143"/>
                  <a:pt x="175660" y="223387"/>
                </a:cubicBezTo>
                <a:cubicBezTo>
                  <a:pt x="150351" y="219169"/>
                  <a:pt x="124704" y="217091"/>
                  <a:pt x="99460" y="212501"/>
                </a:cubicBezTo>
                <a:cubicBezTo>
                  <a:pt x="69393" y="207034"/>
                  <a:pt x="51237" y="200055"/>
                  <a:pt x="23260" y="190730"/>
                </a:cubicBezTo>
                <a:cubicBezTo>
                  <a:pt x="81317" y="187101"/>
                  <a:pt x="139581" y="185934"/>
                  <a:pt x="197432" y="179844"/>
                </a:cubicBezTo>
                <a:cubicBezTo>
                  <a:pt x="208843" y="178643"/>
                  <a:pt x="221975" y="177072"/>
                  <a:pt x="230089" y="168958"/>
                </a:cubicBezTo>
                <a:cubicBezTo>
                  <a:pt x="238203" y="160844"/>
                  <a:pt x="237346" y="147187"/>
                  <a:pt x="240974" y="136301"/>
                </a:cubicBezTo>
                <a:cubicBezTo>
                  <a:pt x="237346" y="103644"/>
                  <a:pt x="238734" y="70030"/>
                  <a:pt x="230089" y="38330"/>
                </a:cubicBezTo>
                <a:cubicBezTo>
                  <a:pt x="205751" y="-50908"/>
                  <a:pt x="208317" y="49765"/>
                  <a:pt x="208317" y="5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Box 40"/>
          <p:cNvSpPr/>
          <p:nvPr/>
        </p:nvSpPr>
        <p:spPr>
          <a:xfrm>
            <a:off x="3395520" y="4667400"/>
            <a:ext cx="11894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õmb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Box 41"/>
          <p:cNvSpPr/>
          <p:nvPr/>
        </p:nvSpPr>
        <p:spPr>
          <a:xfrm>
            <a:off x="483840" y="2449440"/>
            <a:ext cx="1622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i ole voo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Box 42"/>
          <p:cNvSpPr/>
          <p:nvPr/>
        </p:nvSpPr>
        <p:spPr>
          <a:xfrm>
            <a:off x="702000" y="5180040"/>
            <a:ext cx="1419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ntak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Miks releed / transistorid? Näide: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3400" y="8377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aliseerime lausearvutuse valemi   </a:t>
            </a:r>
            <a:r>
              <a:rPr b="0" lang="et-EE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Not (A &amp; B)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leedega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6"/>
          <p:cNvSpPr/>
          <p:nvPr/>
        </p:nvSpPr>
        <p:spPr>
          <a:xfrm>
            <a:off x="2286000" y="220968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2" name="Straight Arrow Connector 7"/>
          <p:cNvCxnSpPr/>
          <p:nvPr/>
        </p:nvCxnSpPr>
        <p:spPr>
          <a:xfrm>
            <a:off x="914400" y="2666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3" name="Straight Arrow Connector 39"/>
          <p:cNvCxnSpPr>
            <a:endCxn id="101" idx="2"/>
          </p:cNvCxnSpPr>
          <p:nvPr/>
        </p:nvCxnSpPr>
        <p:spPr>
          <a:xfrm flipV="1">
            <a:off x="914400" y="2894760"/>
            <a:ext cx="1944000" cy="686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4" name="Straight Arrow Connector 43"/>
          <p:cNvCxnSpPr/>
          <p:nvPr/>
        </p:nvCxnSpPr>
        <p:spPr>
          <a:xfrm>
            <a:off x="3429000" y="2677680"/>
            <a:ext cx="2743920" cy="524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5" name="TextBox 14"/>
          <p:cNvSpPr/>
          <p:nvPr/>
        </p:nvSpPr>
        <p:spPr>
          <a:xfrm>
            <a:off x="3940920" y="2352600"/>
            <a:ext cx="992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 &amp;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5589720" y="3238560"/>
            <a:ext cx="11430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7" name="Straight Arrow Connector 45"/>
          <p:cNvCxnSpPr/>
          <p:nvPr/>
        </p:nvCxnSpPr>
        <p:spPr>
          <a:xfrm>
            <a:off x="4218120" y="380952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47"/>
          <p:cNvCxnSpPr/>
          <p:nvPr/>
        </p:nvCxnSpPr>
        <p:spPr>
          <a:xfrm>
            <a:off x="6732720" y="3733560"/>
            <a:ext cx="13723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9" name="TextBox 48"/>
          <p:cNvSpPr/>
          <p:nvPr/>
        </p:nvSpPr>
        <p:spPr>
          <a:xfrm>
            <a:off x="6955560" y="3238560"/>
            <a:ext cx="1730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ot (A &amp;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49"/>
          <p:cNvSpPr/>
          <p:nvPr/>
        </p:nvSpPr>
        <p:spPr>
          <a:xfrm>
            <a:off x="876960" y="2160720"/>
            <a:ext cx="400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50"/>
          <p:cNvSpPr/>
          <p:nvPr/>
        </p:nvSpPr>
        <p:spPr>
          <a:xfrm>
            <a:off x="855000" y="3006720"/>
            <a:ext cx="383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Box 51"/>
          <p:cNvSpPr/>
          <p:nvPr/>
        </p:nvSpPr>
        <p:spPr>
          <a:xfrm>
            <a:off x="3747960" y="3959280"/>
            <a:ext cx="1267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oitev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5621040" y="2548080"/>
            <a:ext cx="2725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lah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Box 53"/>
          <p:cNvSpPr/>
          <p:nvPr/>
        </p:nvSpPr>
        <p:spPr>
          <a:xfrm>
            <a:off x="2296440" y="3043080"/>
            <a:ext cx="28098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gnet tõmbab kin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685800" y="4735440"/>
            <a:ext cx="33336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Tahoma"/>
              </a:rPr>
              <a:t>Keerukamaid asju, näiteks liitmist ja korrutamist, ehitatak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Tahoma"/>
              </a:rPr>
              <a:t>suure hulga lausearvutuse tehetena umbes samal mo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838080" y="-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n-GB" sz="2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omponend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838080" y="762120"/>
            <a:ext cx="7848720" cy="76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Peamine idee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transistorid kui “katkestusmootoriga” lülit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 = (A and 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(no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B)</a:t>
            </a:r>
            <a:r>
              <a:rPr b="1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Väikestest komponentide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hitatakse suuremaid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millest omakor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veel suuremai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2860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1371600" y="3048120"/>
            <a:ext cx="2209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267080" y="15238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5029200" y="30481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368720" y="3184560"/>
            <a:ext cx="13791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Sisend 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5254920" y="3184560"/>
            <a:ext cx="137916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Väljund C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vool sees: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vool väljas: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4347720" y="1432080"/>
            <a:ext cx="2305800" cy="8247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Lüliti B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vool sees,  1:   katk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gothic"/>
              </a:rPr>
              <a:t>vool väljas, 0:  üh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9064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msgothic"/>
              </a:rPr>
              <a:t>Tegelikud and- ja or-komponend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862280" y="2514600"/>
            <a:ext cx="5871960" cy="33735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497520" y="1066680"/>
            <a:ext cx="77029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OSFET: metal-oxide semiconductor field-effect transi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nput near 2V: circuit on. Input near  0V: circuit of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838080" y="-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msgothic"/>
              </a:rPr>
              <a:t>Mikroprotsessori se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838080" y="762120"/>
            <a:ext cx="7848720" cy="80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Photo fro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gothic"/>
              </a:rPr>
              <a:t>Intel CORE i5-3550 processor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: Ivy Bri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gothic"/>
              </a:rPr>
              <a:t>22 nm process technolo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836640" y="1905120"/>
            <a:ext cx="423072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838080" y="-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rotsessor on kihil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3808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14640" indent="-31464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Sinine: ränist a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Punane: pooljuhtide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           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transisto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Kollane: metalljuht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4640" indent="-31464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2665440" y="533520"/>
            <a:ext cx="411804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el</dc:creator>
  <dc:description/>
  <dc:language>en-US</dc:language>
  <cp:lastModifiedBy>Tanel Tammet</cp:lastModifiedBy>
  <dcterms:modified xsi:type="dcterms:W3CDTF">2018-12-04T08:24:25Z</dcterms:modified>
  <cp:revision>47</cp:revision>
  <dc:subject/>
  <dc:title>PowerPoint Presentation</dc:title>
</cp:coreProperties>
</file>